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7263-87CA-4536-97A2-CCB9E81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8EDB-F419-466F-B7AC-E4759F0C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6CCE-631E-4FE2-9F54-7B16EA56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1BB6-F580-469A-BCBF-48780F8F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8FF4-A6A6-496A-BFBF-2C71ECB4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3BBD-013A-419D-B0D9-7D438F9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537-914B-4358-8C7F-3D1DC413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AE01-1C26-4624-929C-6AE9D681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7EE3-FFAC-4FE5-BC32-0170013E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FEE4-82B8-4031-A344-FA05B40D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B755-322E-41C2-BDD8-FCB3F8ED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BF29-0C44-435D-8984-9ABAA6C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3F93-46F5-4A31-96EE-50798D81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4B1E-2624-454C-9F1F-9684B435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E888-DAEB-4615-8D27-A80A499C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898E-5435-4593-8F03-E513CC11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8270-F599-4484-806C-F687F7BC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4C6A-BAD9-4D38-88EA-DBBA662F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E647-8487-4FFF-951F-1FE13051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EF07-9787-4787-917F-7A7BF43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C7DB-31AF-4A0A-8CD7-02D6B846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87BAF-2FC1-4AC2-9A08-B434494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DB9F-FF80-4D33-A2B1-7D09001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1476-1B72-40C8-A775-B76A04E1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C83-2DEE-4EEA-A6D0-3AAC8ACCEC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4EAD-9FDB-4486-907F-FF639924A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Болезни печени, легких и почек при беременности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Заболевания печени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родораз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но быть быстрым и береж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чтительно абдоми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  амниотомия, родовозбужд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орочение второго периода родов путем наложения акушерских щип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- успеть родоразрешить женщину до гибели плода и появления признаков ДВС-синдр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леоперацион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операционном периоде проводится профилактика массивного кровотечения и гнойно-септических осло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ятся свежая донорская кровь, белковые (альбумин, плазм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ологически активные препараты (гемодез, реополиглюкин, трент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ан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гибиторы проте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нтрикал, гордо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рочном родоразрешении можно сниз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нск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яжелое осложнение беременности, возникающее чащ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ее и характеризующееся определенным симтомокомплекс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молиз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lisi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м уровня ферментов печен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d liver enzi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цитопение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layelet 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 обычно, но не всегда развивается на фоне типичного гесто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е составляет 3,5%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нат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79%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иопатогенез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заболевания связывают со снижением продукции простациклина, вызывающего вазоконстрикцию в области плаценты. Это приводит к изменениям эндотелия, высвобождени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центарного тромбопласт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ступлению его в материнский кровоток. Следствием этого является адгезия и агрегация тромбоцитов, возник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омбоцитоп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пассаже эритроцитов через измененные микрососуды происходи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мо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рушение перфузии в печени ведет к развитию токсического гепатоза - некрозам паренхимы и в ряде случаев - к субкапсулярной гематоме. В результате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ается уровень ферментов в кро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760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возника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69% случаев в 35 нед.  берем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0% -  раньше 27 нед.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3 % - в первую неделю после 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шнота, рвота (кровавая рв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узные или локализующиеся в правом подреберье и/или в эпигастрии боли в жив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излияния в местах инъ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рующая печеночная недостаточность, судороги и к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частыми осложнени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а являются ПОНРП (22%) и острая почечная недостаточность (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жесть состояния быстро на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диагности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500 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общего билирубина ( как  прямой, так и непря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тромбоцитоп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ется внутрисосудистый гемолиз(гемолитическая ане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содержание антитромб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временно увеличиваются протромбиновое время и частичное тромбопластиновое время, уровень фибриногена сни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содержание азотистых веществ в кр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гипоглике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фологическое исследование печени свидетельствует, что в основе патологического процесса лежит синдром ДВС, некрозы печени. Наиболее точный  диагноз возможен с помощью компьютерной томографии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предусматривает назначение плазмафереза, переливание плазмы, обогащенной тромбоцитами, или концентрата тромбоц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экстренное родоразрешение через естественные родовые пути при подготовленной шейке матки и отсутствии противопоказаний к самостоятельным родам. При неподготовленности родовых путей производится кесарево се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интенсивная терапия, включающая глюкокортикоиды (не менее 1 г преднизолона в сутки), введение иммуноглобулинов, гепатопротектор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все призна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исчезают в течение 5-7 дней и обычно не повторяются при последующих береме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ипеченочный холестаз беременных (холестатический гепатоз беременных, доброкачественная желтуха беременных, идиопатическая желтуха беременных, возвратная холестатическая внутрипеченочная желтух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частоте причина желтухи у беременных после вирусного гепат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ологически он связан только с беремен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ется у 0,1-2% б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ология и патогенез холестатического гепат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, что в основе заболевания лежит генетическая предрасположенность к необычной холестатической реакции на продуцируемые во время беременности эстрог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избыток эндогенных половых гормонов, свойственный периоду беременности, оказывает стимулирующее влияние на процессы желчеобразования и ингибирующее - на желчевы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выделения желчи способствует обратной диффузии билирубина в кровь. Это предположение подтверждается тем, что данный патологический синдром развивается у 80-90% женщин во второй половине беременности и подъем содержания эстрогенов коррелирует у них с развитием кожного з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и печени у беременных могут быть непосредственно связаны с гестацией и сопутствовать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ерв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ходят синдром Шихана (острая жировая дистрофия печени), внутрипеченочный холестаз беременных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ляют заболевания, которые не связаны с беременностью, а возникают во время нее (например, острый вирусный гепатит) или беременность развивается на их фоне (хронический гепатит, цирроз печени, доброкачественная гипербилирубинем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естатического гепат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может возникнуть при любом  сроке беременности, но чаще отмечае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мест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чительный кожный з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туха (кожный зуд возникает  за несколько недель до появления желтух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(неинтенсивны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 правом подребер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тальном состояние беременных почти не изменяется. Печень и селезенка, как правило, не увелич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бораторная диагностика холестатического гепат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 (в 5 раз) уровня билирубина (в основном за счет его прямой фр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ная уробилиноген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(в 10-100 раз) содержания желчных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ет активность ряда экскреторных ферментов, свидетельствующих о холестазе: щелочная фосфата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мма-глютамилтранспептидаза, 5-нуклеотид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трансаминаз (аланинаминотрансфераза и аспартат-аминотрансфераза) остается в пределах нормы или повышается незнач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коцентрация холестерина, триглицеридов, фосфолипидов, р-липопроте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ются показатели сверты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инограмма не из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логические исследования печени при доброкачественном холестазе беременных показывают сохранение структуры долек и портальных полей, признаки воспаления и некроза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енный патологический признак - очаговый холестаз с желчными тромбами в расширенных капиллярах и отложение желчного пигмента а соседних печеночных клет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жнения  беременности при холестатическом гепат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шерская ситуация, как и у всех больных с патологией печени, ха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ной частотой преждевременных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перинатальной смертностью - до 11-13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частотой тяжелых послеродовых кровотечен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Лечение холестатического гепатоз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их пор нет лекарства, специфически действующего на холес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симптоматическ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чени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ая задача которого - подавление кожного зу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, связывающие избыток желчных кислот 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и ( холестирамин , антациды:маалокс, альмагель, фосфа-люг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ые тюбажи с ксилитом, сорби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чегонные из группы холецистокинетиков. Антигистаминные средства обычно не эффективны, поэтому назначать их нецелесообразно. Лекарственный метаболизм происходит в основном в печени, поэтому нежелательна медикаментозная пере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холестатическим гепатоз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печеночная холестатическая желтуха беременных у большинства женщин протекает доброкачественно, преры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менности не по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 у таких женщин рекомендуется проводить в лечебных учреждениях, где будет обеспечено оптимальное лечение преждевременно родившегос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дах показана профилактика кровотечения (часто коагулопатическ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ритических ситуациях при появлении опасности для плода следует вызывать преждевременные роды после 37 нед.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рый вирусный геп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ое частое заболевание, сопровождающееся желтух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вязанное с берем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по этиологическому признаку различают несколько вариантов острого вирусного гепатита: вирусный гепатит А (ВГА), вирусный гепатит В (ВГВ), вирусный гепатит С (ВГС), вирусный гепат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ирусный гепатит Е (ВГЕ). Имеются достаточно четкие представления о вирусном гепат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сомые предположения о существовании вирусного гепати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Вирусный гепатит А (ВГА)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Особенности течени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за прерывание беременности (в 2 раза чаще); 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местрах беременности риск выше, чем в перв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тяжелое течение гепатита (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вине беременности  гепатит протекает тяжелее, чем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ение родов при остром В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ы  не грозят роженице какими-либо осложненииями, связанными с гепа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о время родов  плод всегда находится в состоянии гипо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и ведении родов  нужно иметь в виду прежде всего состояние плода и независимо от срока беременности их нужно вести как преждев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ГА во всех стадиях заболевания не является противопоказанием для родоразрешения путем кесарева сечения (по строгим акушерским показаниям), но предпочтение следует отдавать родоразрешению через естественные родовые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оды произошли в острой стадии ВГА, это повышает риск послеродовых воспалительных заболеваний у родильницы и риск постнатальной заболеваемости у новорож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бенок родится здоровым. Он не подвержен риску инфицирования ВГА и в специальной профилактике не нужд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ГА относится к самоизлечивающимся инфекциям, поэтому не требуется медикаментозная терапия, можно ограничиться лечебно-охранительным режимом и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илактика ВГА у б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и общегигиенических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исключение контактов с желтушными больны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беременной, имевшей контакт с больным ВГА (и всем беременным в очаге эпидемии), у-глобулина однократно в дозе 3-5 мл внутримыше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-глобулин введен до заражения вирусом или в раннем инкубационном периоде, он может предотвратить или ослабить клиническое течение заболев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ировая дистрофия печени беременных (синдром Шихана, острый жировой гепатоз беременн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елтая атрофия печ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индром описан впервые  в 1934 году, а подробная клиническая и гистологическая характеристика заболевания д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ha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940 году. Он предложил название «острая желтая атрофия пече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случай на 13 500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нем составляет 60-85%, плод погибает еще чащ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ирусный гепатит В (ВГ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епатита В относится к ДНК-содержащим вирусам, поражающим преимущественно клетки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будитель гепатита В передается от больного или вирусоносителя с кровью и всеми биологическими жидкостями: спермой, слюной, мочой, мол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а, перенесшие гепатит В и имеющие антитела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вторно не заболе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В проходит через плаценту, и возможно внутриутробное заражение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еимущественно происходит интранатальное заражение (95%), на пре- и постнатальное заражение приходится 5% случ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может возникнуть пожизненная персистенция вируса, в результате чего к 20 годам они умирают от цирроза или рака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в мире имеется 1 млрд инфицированных, 300 млн носителей вируса 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и течения беременности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 представляет реальную угрозу для жизни женщины, плода и новорожденного (летальность вне беременности составляет 0,4-2%, у беременных в 3 раза выш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ний токсикоз – 3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стоз – 22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 - 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 -  54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5% случаев дети в дальнейшем отстают в общем развитии и предрасположены к различ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ся риск ПГСЗ ( угнетение иммунного статуса  за счет беременности и за счет гепатита, и активизации на этом фоне бактериальной микрофл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льниц часто возникают поздние послеродовые кровотечения, их риск сохраняется на протяжении 2-3 недель после родов (на фоне эндометр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собенности течения ВГВ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течения острого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ая печеночная недостаточность клинически выражается энцефалопатией, прогрессирующей желтухой, геморрагическим диатезом, нарушением белковосинтетической и. обезвреживающих функций печени. Основным признаком является энцефалопа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родовом периоде - ухудшение течения заболевания, независ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о, каким путем произошло прекращение беременности: роды или выкиды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, развившийся в периоде лактации, протекает еще тяжелее, чем во время бере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времени прошло от начала заболевания до момента родов, тем меньше осложнений возникает у беременной, роженицы, родильницы, плода и новорожде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чение родов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по количеству и структуре осложнений практически мало отличаются от родов у здоровых рож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касается нарушений сократительной деятельности матки, кровотечений во время родов и в раннем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всегда от внутриутробной гипоксии страдает плод, нагрузка на него увеличивается во время родов, особенно преждев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Лечение беременных с острым ВГ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 лечения при легкой и среднетяжелой формах ВГВ тот же что и при ВГ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етотерапия без существенного медикаментозного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тяжелой форме острого ВГВ возникает необходимость в лекарствен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угрозы прерывания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филактика ВГ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тически всем беременным производят скрининг на носительст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8 и 32 неделях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итализируют больных женщин и вирусоносительниц в инфекционную больницу с акушерским стацион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у ВГВ у новорожденных, матери которых являются носител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перенесли ВГВ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беременности, осуществляют вакциной в первые 24ч, через 1,2 и 12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спространенн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опуляции более 2% в профилактике нуждаются все новорожд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ГС и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ботано единого взгляда на возможность передачи инфекции от матери плоду (антенатально, интранатально и постнатально), данные литературы очень противоречивы. ВГС проходит через плаценту, это пассивная передача их плоду от мате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акушера в острой стадии ВГС у беременной такие же, как при тяжел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прерывания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родов в любом сроке беременности как преждевр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и лечение послеродовых осло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при ВГС, начавшемся остро, чрезвычайно 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острого вирусного гепатита С у беременных такое же, как лечение ВГА и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ВГС подобна профилактике ВГВ. Однако вакцина против ВГС пока не соз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временная и полноценная диагностика заболевания, которая включает в себя определение этиолог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лечения ВГ и ведения беременности составляется инфекционистом и акушером и корригируется в зависимости от степени тяжести и стад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еременные в острой стадии ВГ подлежат госпитализации, которая должна быть организована таким образом, чтобы в стационаре можно было осуществить полноценную диагностик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ние основного заболевания, а также необходимую акушерскую помощь во время беременности и родовспом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1408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ценное лечение основного заболевания - наиболее эффективный способ профилактики акушерских осложнений у больной беременной, у плода и новорожд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аемые инфекционистами лекарственные средства, включая все реже применяемые кортикостерои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ют беременной, плоду и новорожденному компенсировать повреждающее действие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принцип тактики ведения беременности в острой стадии ВГ любой этиологии - предупреждение прерывания берем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давляющем большинстве случаев обычные средства лечения, включая гормональные, примененные своевременно и последовательно, оказываются достаточно эффектив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применяемые инфекционистами при среднетяжелом и тяжелом течении ВГВ (вливание растворов глюкозы, гемодеза, аскорбиновой кислоты и др.), способствуют улучшению питания и снижению уровня гипоксии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иология ОЖГ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болевания  не я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развитие связывают с тромбозом сосудов печени, побочным действием тетрациклина и левомицетина, определенное значение имеют нарушения иммунного гомеостаза в системе мать - плод,  возможно, болезнь связана с генетическими дефектами ферментных систем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иопсии определяют массивное диффузное ожирение печени без некроза гепатоцитов и воспалительной инфильт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е ожирение печени проявляется тяжелой печеночно-клеточной недостаточностью, геморрагическим синдромом, обусловленным диссеминированным внутрисосудистым свертыванием крови и поражением поч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чинается родовая деятельность в острой стадии В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о использовать акушерские приемы и лекарственные средства для предупреждения и лечения внутриутробной гипоксии плода и родового травмат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юбом сроке беременности роды следует вести как преждевременные с широким использ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боливающ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пазмолитических средств и максимальным сокращ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периода,  с использованием    перинеотомии и пудендальной анесте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трой стадии ВГ предпочтительны роды через естественные родовые пути, однако при необходимости, по акушерским показаниям, возмож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оразре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кесарева сечения под общим обезболиваний  или эпидуральной анесте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послеродовых заболеваний родильницы и новорожденного необходимо начинать возможно раньше и проводить в полном объем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м периоде ВГ абсолютно противопоказано прерывание беременности, независимо от срока беременности, медицинских показаний и желания женщин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ая стадия ВГ' заканчивается при наличии клинических и лабораторных признаков выздоровления, т.е. когда наступает период реконвалесценции. Прерывание беременности лучше производить именно в э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нические гепатиты: хронический персистирующий(ХПГ) и хронический активный ( ХАГ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литературы у, 50-60% пациенто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азывает неблагоприятное влияние на течение беременности и ее ис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нская смертность составляет 8-9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нтанные аборты - 15-2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временные роды - 21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200-220%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 и ухудшение течения  заболеваний печени  -  22% (обычно в начале беременности или через 1-2 мес. после ее исх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улучшалось во второй половине беременности, по-видимому, под влиянем гиперкортицизма, свойственного этому периоду г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щинам, больным хроническим активным гепатитом беременность противоп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П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качественное, заболе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грессирует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ий персистирующий гепатит у большинства беременных протекает более доброкачественно, чем Х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и этом заболевании не противопоказ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ре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ри хр. гепатите В возможность передачи вируса плоду так же велика, как при остром гепа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рроз печени в сочетании с беременностью встречается 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ным циррозом печени должно быть предложено прерывание беременности на ранних ее сро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может быть сохранена при настойчивом желании женщины, у которой цирроз печени не сопровождается признаками декомпенсации и выраженной портальной гипертенз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роцесса в период беремен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е аборты и преждевременные р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творо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 высо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ече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родовом периоде или после аборта из-за нарушений функций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й подъем уровня портальной гипертензии и риск кровотечения из вен пищевода существует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чал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местров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бере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"доброкачественная гипербилирубинемия" - собирательное понятие, включающиие различные заболевания, связанные с нарушением обмена билируб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словлено нарушением оттока желчи по холангиолам или внепеченочным желчным прото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следствием снижения способности гепатоцитов захватывать билирубин из плазмы крови, обусловленной недостаточностью трансфертной активности клеток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Жильбера обусловлен повышением уровня непрямого билирубина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Дабина-Джонсона - врожденное нарушение желчевыделительной функции печени с увеличением в крови преимуществен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го билирубина, но также и непрям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отора близок к предыдущему варианту и также характеризуется гипербилирубинеми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ямой реа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аких больных основным признаком болезни является иктеричность склер и гипербилирубинемия с прямой или непрямой реа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дко имеются диспепсические расстройства, незначительная спленомег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функциональных проб печени изменяется в основном билирубин сыворотки крови с преобладанием прямой или непрямой реак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 не представляют опасности для беременных женщин и не являются противопоказанием для ее со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хема динамического наблюдения за беременными с заболеваниями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посещения до 30нед 2р в месяц, затем – 3-4 раза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апевт – 1раз в 2-3 м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гастроэнтеролога, гепат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/х исследование: белок, билирубин – прямой и непрямой, холестерин, глюкоза, креатинин, печеночные пробы, трансаминазы (щелочная фофатаза, лактат-дегидрогеназа, аспартатаминотрансфераза, аланинаминотрансфе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стази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печени, желчного пузыря и пр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я к госпитализации – обострение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41792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я легких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 течени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заболевания выделяют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 стад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дия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елтушная) начинается на 30-34-й неделе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ж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жога  сопровождается ощущением жжения по ходу пищевода при прохождении не только твердой пищи, но и жидкости. По мере развития болезни изжога становится мучительной и не поддается леч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чение острой пневмонии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яжелое в связи со снижением дыхательной поверхности легких, высоким стоянием диафрагмы, ограничивающей экскурсии легких, дополнительной нагрузкой на сердечно-сосудист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быть и стертым, без высокой лихорадки, выраженных явлений интоксикации, патологических сдвигов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рая пневмония не является противопоказанием для продолжения беремен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ложнения беременности при острой пнев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: в/у гибель плода, материнская смер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строй пневмонии  следует отсрочить развитие родовой деятельности назначением бетта-миметиков и других средств, так как родовой акт опасен в связи с воздействием токсико-инфекционных факторов на нервную и сердечно-сосудист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личии дыхательной недостаточ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ериод изгнания укорачивают путем перинеотом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пневмонии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невмонии производится в условиях стацион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антибиотика рекомендуется учитывать срок беременности и влияние препарата на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дентификации возбудителя проводят бактериологическое исследование мокроты. Определяют чувствительность микроорганизмов к антибиот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/б: пенициллин, синтетические пенициллины, цефалоспорины, аминогликозиды, фторхинолоны, макро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043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Бронхиальная астма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реди беременных бронхиальную аст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ностируют у 1-2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: м.б.улучшение , без изменений или ухуд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лучшение течения 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цессе беременности расширяется просвет бронхов и улучшается их проходимость, что наиболее выражено во второй половине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концентрации свободного кортизола, а также циклического АМ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66600"/>
            <a:ext cx="779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худшение течения 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логическая гипервентиля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онцентрации прогестерона снижает чувствительность дыхательного центра к углекислоте, что вызывает повышение его 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беременности происходит угнетение клеточного иммунит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родукции аденозина, активация Т-супрессоров, которые хронизируют инфекционные заболе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цирование иммунных процессов антигенам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невосприимчивости беременных к вирус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оскольку бронхиальная астма является гетерогенным заболеванием, во время беременности она может протекать по-раз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иальной астмы на течение берем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ний гестоз (у 37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дний гестоз (у 4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(у 2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ническая гипоксия плода и ЗВ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омалии родовой деятельности (у 19,4%), чаще быстрые и стремитель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родовой травматизм плода(у 23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е инфиц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смертность (42%о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хиальная астма развивается у 5% детей в первый год жизни, у 58% она может появиться в последующие г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беременных с 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"простудное" заболевание является показанием для лечения  антибиотиками, физиотерапевтическими процедурами отхаркивающими средствами,  назначения бронхолитических препаратов или увеличения их д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 хрониче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центарной недостат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нхиаль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т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является противопоказанием для беременности, даже ее гормонозависнмая форма, так как поддается медикаментозно-гормоналыю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Б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бронхиальной астмой рожают обыч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ias natur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при доношенной беременности, так как приступы удушья в родах не трудно предотвр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 тщательный контроль (КТГ) за состоянием плода, при ухудшении его состояния накладывают акушерские щип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ая дыхательная и легочно-сердечная недостаточ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ем для оперативного родоразрешения путем кесарева сечения. У 6,5% больных во время операции развивается бронхоспазм. Седативные препараты во время операции применяются только в исключительных случаях, т. к. они угнетают дыхательный центр и тормозят кашлевой реф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чение Б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онхиальной астмы у беременных следует иметь в виду, что все используемые для этой цели препараты проходят через плаценту и могут причинить вред пл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стма течет благополучно, не нужно вообще прибегать к лекарственной терапии. При легком обострении заболевания можно ограничиться  горчичниками, банками, ингаляциями физиологического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отропное лечение бронхиальной астмы - десенсибилизация сывороткой к найденным аллергенам - проводится в течение ряда лет и во время беременности практического значения не име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исное лечение бронхиальной астмы включает бронхорасширяющие средства (симпатомиметики, ксантиновые производные) и противовоспалительные: интал и глюкокортик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лекарства абсолютно противопоказаны больным бронхиальной астмой: а-адреномиметики, пилокарпин, р-адреноблокаторы, морфины (подавляют дыхательный центр), препараты раувольфии (вызывают вазомоторный ринит). Транквилизаторы, седативные препараты применяют только в исключительных случаях, т. к. они тормозят кашлевой рефлекс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тора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пустя 1-2 нед. от начала болезни)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елтуш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ет 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ются изжога, тошнота и рвота (чаще кровав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жение за груд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ют симптомы печеночной недостато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уменьшение печ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у беременны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не является противопоказанием для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ния к прерыванию берем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острение заболевания в первые 3 м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ыхательная недостаточност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т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гочно-сердечная недостаточ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оэктатической болезни на 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менность не способствует обострению бронхоэктатическ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больных пневмосклерозом, эмфиземой легких может усилиться дыхательная недоста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лагоприятное изменение погодных условий, особенно осенью и зимой, простудные заболевания вызывают обострение бронхоэктатической болезни независимо от срока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Н: гипоксия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ГСЗ (наличие очага хронической инфек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д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сложнениях беременности  - госпитализация в гинекологический или акушерский стацио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оразрешение беременных с бронхоэктатической болез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ы рекомендуется вести через естественные родов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ольных с легочно-сердечной недостаточностью потуги должны быть выключены с помощью акушерских щипц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сарево сечение в условиях хронически инфицированного организма нежел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ч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ым с бронхоэктатической болезнью рекомендуются высококалорийное питание с увеличенным количеством белка и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работой в теплом, хорошо проветриваемом помещении, прогулки 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бострении заболевания применяется лечение антибио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колько раз в день следует принимать положение, при котором наиболее свободно отходит мокрота. Если мокрота отделяется с трудом, назначают отхаркивающие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лечение - удаление легкого или его части - во время беременности применяется редко, но и эту возможность следует иметь в виду, если процесс локализ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259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4221000"/>
            <a:ext cx="827064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е почек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елонефрит у беременн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пиелонефрит составляет 14% болезней почек в поп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елонефрит диагностируется у   12,2% беременны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всех экстрагенитальных заболеваний у беременных чаще всего (в 6 — 10% случаев) встречается пиелонефр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ем в 50% случаев это заболевание наблюдается у беременных, в 35% —у родильниц и в 15 % — у рожен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иология пиелонефр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ого возбудителя пиелонефр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будителями пиелонефрита беременных могут быть кишечная и синегнойная палочки, протей, клебсиелла, реже — эптерококки, стрептококки, стафилококки, вирусы, грибы, простейшие (трихомонады). Заболевание часто вызывается различными микробными ассоци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огенез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955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озникновения и развития пиелонефрита беременных, кроме наличия ипфекционного агента в организме, необходимо нарушение уродинамики верхних мочевыводящих путей (нарушение пассажа мо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ю заболевания может способств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личие препятствия оттоку мочи (опухоль, камни, рубцовые изменения в мочеточниках, пороки развития почек и мочеточников). Определенное значение в развитии пиелонефрита имеют условия, способствующие усиленному сдавлению мочеточников беременной маткой: крупный плод, узкий таз, многоводие, многопло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менения гормонального баланса в организме. Высокий уровень прогестерона усиливает активность бета-рецепторов, вызывая гипотонию и дискенезию. Высокий уровень эстрогенов, снижая альфа-рецепторную зависимость ,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тологические рефлюксы — пузырно-мочеточниковый, мотеточнико-лоханочиый, лоханочно-почеч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476280"/>
            <a:ext cx="83437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иместре беременности примерно у 60% женщин создаются условия для возникновения патологических рефлюксов в связи с нарушением нервно-мышечного тонуса мочеточникового ус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ттока мочи приводит к повышению внутрилоханочного давления. В результате лоханочно-почечных рефлюксов происходит разрыв свода чашечек и инфицированная моча инфильтрирует интерстициаль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нозной системе микробы проникают в общий кровоток, а обратно в почку возвращаются по артериальной системе и вызывают в ней воспалительный процесс. Эти изменения сопровождаются острым нару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обращения в почке и  гипоксией ее, что, в свою очередь, поддерживает воспалительный процес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ть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через 1-2 нед. после возникновения желт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ая  печеночная и почечная недостаточ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очная недостаточность не сопровождается энцефалопат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 заболевания находится в пределах от нескольких дней до 7-8 не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ствие тесной нейрогенной связи верхних отделов мочевыводящих путей с сосудами почек возникшие уродинамические нарушения влекут за собой гемодинамические изменения в п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тонуса почечных вен приводит к одновременному спазму артерий, что приводит к гипоксии и еще сильнее усугубляет расстройства уродинам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одящему распространению инфекеции способствует несостоятельность сфинктера уретры в связи с большой нагрузкой на него в конце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значение и особенности женского мочеиспускательного канала (он короткий и имеет почти прямое на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елонефрит чаще развивается на фоне снижения мест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щей им­мунологической защиты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чение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7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иелонефрита - 1/3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риместре у 9,6%, во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у 78,3%, в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 43%, после родов – у 19,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серозного часто возникает гнойный пиелонефрит  (диффузно-гнойный - недеструктивный и очагово-гнойный - деструктивный).  Деструктивный (апостематозный, карбункул и абцесс почки) диагностируется у 3-5% бе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с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единение гипертен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П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пие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43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нашивание беременности (выкидыш – 6%, преждевременные роды – 2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тяжелых форм гестоза (40-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, особенно при гиперт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я мочевой системы матери являются тератогенным фактором для мочевой системы плода. Заболевания почек у плодов: гидронефроз – 2,8%, пиелонефрит – у 3,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548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и риска для беременных с пиелонефрит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415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осложненный пиелонефрит, возникший во время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онический пиелонефрит, существовавший до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.пиелонефрит с гипертензией или азотемией, пиелонефрит единственной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в зависимости от степени риска: гестоз у 12,5% - 25% - 5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еременных 3ст риска беременность противопоказ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родов у беременных с пие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пиелонефрит не является показанием к прерыванию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дение родов рекомендуется применение спазмолитиков, анальгетиков, а/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явлении острой окклюзии мочеточника проводится катетеризация мочеточника и роды заканчиваются через естественные родов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продолжают а/б или уросеп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е родоразрешение проводится по акушерским показаниям с интраоперационной профилактикой инфекции (в/в а/б сразу после извлечения пл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острого пие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7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иотики. 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– пенициллин и полусинтетические пенициллины. С осторожностью амоксиклав (ингибитор бета-лактамазы).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ах можно использовать цефалоспорины, аминогликозиды, фторхинолоны, карбопин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тики: нитроксолины, препараты налидиксиновой  кислоты (неграм, невиграмон), нитрафураны, сульфаниламиды (могут вызвать ядерную желтуху у новорожденны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415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пассажа мочи с целью восстановления оттока  м.б. использова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 мочеточ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е дренирование с помощью самоудерживающегося катетера-ст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резкожная пункционная нефростом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ая операция (декапсуляция почки, санация очагов гнойной деструкции с нефростомие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, стенирование мочеточников и чрезкожная нефростомия допустима только в случае, когда отсутствуют клинико-лабораторные признаки гнойно-деструктивного пиелонефр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нажное по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78480"/>
            <a:ext cx="854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559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зинтоксикационные средства (обильное питье, инфузия физ.раствора, гемодез, р-р глюкозы и др). Объем – 2,5-3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змаферез, УФ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енсибилизирующая терапия, спазм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омодулирующая тера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грибковые препараты и энтеросорб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нтервалах между а/б терапией показаны растительные уросептики: толокнянка, шалфей, шиповник, хвощ, ромашка. Канефрон, фитолиз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терапевтические методы: в стадии ремиссии - дециметровые волны, УВЧ, Амплипульс (синусоидальные модулированные токи). В острой стадии – ультразвук на обл. п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ем излеченности являются отсутствие клинических симптомов и отсутствие патологических изменений мочи при трехкратном  ис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ение беременных с пиелонефритом в женской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с заболевании почек нуждаются в диспансерном наблю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ременности наблюдаются совместно с терапевтом, при необходимости уроло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методы обследования: ОАМ еженедельно, пробы Нечипоренко, посев мочи, УЗИ п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ая оценка состояния фетоплацентарного комплекса (УЗИ, ДМИ. КТГ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 имеющихся очагов инфекции : кариозные зубы, синуситы, тонзиллиты, колтп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булаторно рекомендуется: колено-локтевое положение по 5-8мин 3-4 раза в день, растительные уросептики в течение все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питализация при обострении или появлении осложнени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мерулонефрит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мерулонефритом болеют 0,1-0,2% б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проблема сочетания беременности и гломерулонефрита не определена, очевидно, что при определенных формах этого заболевания прогноз можно считать благоприятным, и беременность допустима, в то время как при других формах беременность представляет опасность для женщины и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бораторные критерии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ия, лейкоцитоз до 20-30х109; лимфоп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О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протеинемия, гипоальбуминемия, малая активность трансаминаз, щелочной фосфатазы, некорригируемая гипогликемия, гипepбилирyбинe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мбоцитопения, гипофибриногенемия, снижение протромбинового индекса, гипокоагуляция с торможением фибринолиза, дефицит прокоагулянтов и высокая антикоагуляционн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ый для острого жирового гепатоза ДВС-синдром  развивается после внутриутробной гибели плода. Он проявляется маточными или желудочно-кишечными кровотечениями с нарушением свертывающей систе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840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течения гломеру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ый ГН встречается во время беременности крайне ре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чение хронического ГН при берем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ко наступает обост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худшение течения заболевания во время беременности или после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гломеру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находится в прямой зависимости от наличия гипертензии (при гипертензии частота всех осложнений беременности в 10 раз выш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черепные кровоиз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, гипоксия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и материнская смер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степ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иска, определяющие частоту неблагополучного исхода беремен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ов для матери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риска - минимальная. Латентная форма Г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возникают не более, чем у 20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редко ухудшает течение заболевания, менее, чем у 20%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4153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риска - выраженная. Нефротическая форма Г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(от 20 до 50 %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й аб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а перинатальная смертность (до 200%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е заболевания может ухудшиться во время беременности или после родов более, чем у 20% б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280" y="-185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епень риска - максимальная. Гипертоническая и смешанная формы ГН, азотемия при любой форме, острый ГН или обострение хрониче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(более 50%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  (более 200%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едставляет опасность для здоровья и жизни женщ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5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беременных с гломеру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75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12 нед. беременности госпитализация в стационар для уточнения формы заболевания и решения вопроса о сохранении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, у которых установлена латентная форма ГН, могут в дальнейшем наблюдаться в женской консультации. При обострении  ГН или появлении осложнений беременности необходима экстренная госпитализация.  Дородовая госпитализация необходима за 2 нед до 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нефротической формой гломерулонефрита должны быть госпитализированы столько раз и находить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циона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ько времени, сколько требует их состояние (иногда несколько месяцев, вплоть до родов). Дородовая госпитализация в 36-37н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ольные гипертонической и смешанной формами заболевания отказываются от прерывания беременности, на них распространяется тактика, рекомендуемая при нефротическ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-19620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улист -2 раза в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дополнительных исследований для беременных с ГН: ОАМ еженедельно, АМ по Зимницкому, Нечипоренко, проба Реберга, бак.посев мочи; б/х анализ крови – белок, мочевина, ост.азот, креатинин, анти – О стрептолиз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Г, УЗИ почек, пункционная биопсия почек(крайне редк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оценки состояния плода (УЗИ, ДМИ, КТГ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ация хронических очагов инф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 беременных с гломерулонеф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86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атентной форме гломерулонефрита женщины могут рожать своевременно и не нуждаются в каком-либо специальном акушерском пособ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ных нефротической, смешанной и гипертонической формами болезни показано досрочное возбуждение родовой деятельности, особенно если контроль за состоянием плода, начинает указывать на нарушение функции фетоплацентарного компл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ы ведутся с тщательным обезболиванием, использованием гипотензивных препаратов, с ранней амниотом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м периоде родов при высоком АД возможно использование акушерских щипц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сарево сечение применяется  по акушерским показ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гломеру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генетическая терапия ГН включает в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методы, преимущественное действие которых определяется иммунной депрессией(глюкокортикоиды, плазмаферез, цитостатики, антилимфоцитарная сыворотка, дренаж лимфатического прот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средства преимущественно противовоспалительного воздействия (аспирин, индометацин, бруф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ямые и непрямые антикоагуля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аминохино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и беременности использовать только аспирин, гепарин, допустимы глюкокортико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егкой латентной формой ГН беременные не нуждаются в леч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ругих формах используют симптоматическую терап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беременных с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нсивной предоперационной подготовки, включающая плазмаферез и трансфузию свежезамороженной плаз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1:30Z</dcterms:created>
  <dc:creator>Iggy</dc:creator>
  <dc:description/>
  <dc:language>en-US</dc:language>
  <cp:lastModifiedBy>Iggy</cp:lastModifiedBy>
  <dcterms:modified xsi:type="dcterms:W3CDTF">2007-02-13T18:09:32Z</dcterms:modified>
  <cp:revision>130</cp:revision>
  <dc:subject/>
  <dc:title>Болезни печени, легких и почек при беременности </dc:title>
</cp:coreProperties>
</file>